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8AE56-F377-42C0-B145-11A2C9211B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E8643-80E7-42E0-93FF-B58EE53B8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981867-9397-4F17-9489-3ACBE26B25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A76061-FD00-40E6-8790-E4DB6A0798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725254-6F38-4F36-A72F-01DF85D3EC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F66C49-E157-4F23-AF1B-D0FC0BF3D3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C9786E-AFA5-442F-8B6E-31773A98A5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7CFD42-3E28-4FD9-95ED-4FCEE77B5F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2B9F2C-82DD-46AA-B2FC-81C9E1F1BE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192BE9-0292-4652-831A-9C637C5F0E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3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BF9FC3F-D34A-4097-9EBF-CEE01C0270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BC84377-B8BF-4943-8596-52075025C0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1353AF-846B-4D5C-9841-717253317F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279CD72-FDF7-4B00-B8F0-6BAB011B14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722858-6287-41FE-B51B-6674C43BB6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C1F9551-9C47-415B-9643-61BF7FE2FC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F9A152-28FD-402C-BBFE-43C93A5105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416CB70-13AD-4C5A-8680-9F4FAA07E7E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DDDE06-9BFF-44FF-80E6-EA1DA28F3A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735CDA-1FE3-454F-B54D-6BD225B027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83AFBD-5307-4C94-85A3-EC2B8D2AA0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131CCD2-3A8D-420C-A061-05A921EF24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F9E570-8444-433E-940B-803081EF445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BDA26-7EF6-4472-BE8D-DA987BA34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1CB86C4-DB38-4D94-B11D-164EE3B4CC0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6D33641-00BF-42C4-9829-004C879ACCB3}"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33FB7546-B0C6-47BC-BDCA-DD65932A300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833B8A8B-985C-4A9A-82D1-C28C113F9592}"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988DE29-E9B8-4BF2-ADE2-C1648CF39E30}"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BB608A4-F40C-4AE5-AC8B-23ADDEC4B076}"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9D448F92-9AD9-4018-A12E-0D55453C1C4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4212B8CC-3FE8-46CA-9837-D84D2212ACB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0AF67A1-ECEC-4262-83CD-BCD6EE8029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184A85-1626-4AEF-A072-8F3E86B12EAA}"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EE3E37-473B-4BD3-9AE0-CD3FA2FD93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BC19AD8-0FFC-4DD9-B3B1-AE97BC23838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C716A211-D458-485C-AEBA-91D0467017DA}"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1F4F5ED-933E-4326-8B1B-E878ABF7FF5B}"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74CA44E-532F-4A76-85E8-D4B7BBAAC5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A18605C-A007-4795-9F8D-6D06ED2424E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E63D10-F441-4906-9458-169F577D2B5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62C6112-E368-423A-A2E6-2C5F44363B7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EDEF6E-75A0-4542-96CF-E0BA6749563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15DD1C-B261-4543-AF1B-103ED365030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BEB8658-A99C-4695-A6C0-84E99DBA9E5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60DDB-9647-4A87-87E4-31FA2C6A5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248C377-CB40-4707-AF0E-D5F59EC450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803D01-5023-446B-AFDD-A345ED7A07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5C289D5-68E3-4A75-9817-FC20106B3A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E166D34-72AB-4777-B15D-5BE3679DA7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D7AACE-F563-44FD-A91E-F43C99800C7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4CB80AC-1C04-4432-8221-23D0AE92DC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2E4657C-5265-4189-9BFE-061AF96411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0559ED5-3FA1-4BC3-A225-DD2414E803A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52BE769-6AC7-4592-8CF9-BC07FC2FEC6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FD8D06-8A26-4B7F-8A84-2B271149CF7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FB3E7-437D-40D2-AE1B-F1D9C613C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0B3A72F-13F2-47EB-9975-B011DA15E7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ED22AC-A001-42A5-9836-DE3771EC6B2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C98105-8062-47FA-9706-31A42B6C6B4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D9ACF0-00B1-4526-8397-5C5C0F4C3F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ED47108-21FB-4D3F-8EA7-C12C6F120E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713C0EE-9F8E-45D2-9A9E-9FC88339CE4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24898F-12A5-47AD-84CE-BB1167723A4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181FDBD-C26F-4FE4-B6E0-72E097E97E5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AE53FC7-E77F-4D8C-B77F-0BFB4A1791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18B0126-EFC5-4C76-B00E-E0ED3EBB33C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0A40AF-9A56-4823-AAE8-1BFE0221E3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01BFC6-4413-4A29-B5D2-FF70FEF21CD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89D7D45-F1BD-458D-BC08-C252C15860D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AF815CB-BCD9-4ADE-B6F1-E70090E105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BF6C6FE-D928-456D-B0A3-B2238D7349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C97D73-5F11-4215-8E5E-238DED818B4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3B0FB4-377D-4C37-B174-C6CC8ED4E3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A9FDE9-9281-4484-969A-843DB7A91E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9E96303-36E5-4ED1-B89C-779793DBE20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0D4F4D4-E4AE-4AF6-BF7C-7F7993265FB1}"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9A41AB0-BF21-4F8A-8BCF-90317C31A81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40D93-75AD-4B04-9AFA-8D20247BC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834B6C2-64A7-4855-91F2-83DCBC73EAD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D57F8EB-695D-4C35-BCE9-D1EF01C10A2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3A9EFC8-0C0E-4C91-A2A0-2614F0C5388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E35E59A-DFB5-484F-B7C8-B09323043A1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6BECF53-0AB3-4A10-A996-621282C3B2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9E66E82-F928-4098-B0FA-FAEE3F5F20E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71FA874-0A8F-42B3-A093-EB9D2F2107B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D4D5BDD-66D7-459B-8449-08A200DBAD2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BA38281-3DAF-452F-ACEA-277C88C47D9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1FDCA4C-7EA2-4278-A965-4CDC1DA0859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16C6B-B87C-406D-9750-4CAB6C6A34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D639FE-FAC3-4581-BD53-A4996F75252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F09539F-2D64-4898-8FB6-E7B5C67E684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A235E63-9076-4F33-9DB6-9C56A14A6F4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48AD424-3918-4B01-8356-6DAB66D1174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6A34122-E6A2-42A0-999A-4DB3F39BA2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93D4595-A6B3-4093-978F-5CF3DFF78BE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7FF007-3783-4D43-B9B6-9DF18B90CB8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D8BD327-B337-4B73-BFB5-9EBBAECC17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17BF1E7-D5B1-4B1F-98B8-055FD7F4E62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A8F1539-FC85-4C5F-A110-20B5A63929E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C854F-50DF-4AD6-865B-7215EA599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8A03F94-58EE-41DA-9286-18FA3B4B102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15E75BE-666D-4E4F-8E2C-302C8DC74E9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F4B7D37-1AEA-4E97-A64D-346341D907E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8CE29-5E25-4C42-A79D-CCE90A88E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4CF7D-FB92-4C16-9903-72EE2EFDAC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79642-87B9-4679-9730-0F719A77C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95F054-DC49-4E94-ADA3-C860C1B3D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656D91-82C5-4767-9CD3-E1A1FA5E4C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88F23-B2A8-4EB0-ABB0-0E43A706B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AFBDA4-F7AD-4AFD-9535-D378E405147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BE145B-E65D-4E7B-BDD0-6CCC3D701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BA8894-6706-47F2-AC74-A03DC37F3C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E0C72D-9DED-4C68-8510-3E4E6945F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B45CF3-7C71-4C92-B736-9C03FD7EF1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CD246-704F-4F89-988D-647F358F0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421E98-24BA-4842-82D2-30F874732B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F4CB73-7579-4F6A-8812-0B606E7AB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03CD8F-F60D-4108-A35E-0B1969F08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67A8D-99A7-4393-B55D-2BB5B7A57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D8DA91-D426-492E-98F0-30741448D5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8A11E7-53CB-437E-A2E1-74C8E90F5E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7F7D1F-145C-426E-84EF-9CCB055FB2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1DDFAD-02D6-4A44-B2EE-EC822477B2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2179F-8130-4BB7-B901-95819D626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1F12A3-77AE-461E-AF6B-95FCBB6677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A9746-250C-4BEE-AA8A-B2AB5189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FCC49-228E-42F7-9B2F-E2805DD7C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C9A8B3-3395-4A0C-9480-974976D896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1A6062-1C78-4B44-A9FE-CBED3795BB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402B77-CDA0-4084-BE76-C64BA7D218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EFC3F4-ED70-4AC5-9D47-74F051DF7E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9B4D2-DDF4-47E9-9E06-450CF078B3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130C59-888D-4702-8681-A7DF0A2FC7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0A601B-2000-486B-91F0-B5A6F74F41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6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AA3372-DE1B-482E-84FB-EAECA898D2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AC9DCE-3390-4DFF-9903-AB4AD910AF8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C078D-9D88-4A6C-A154-2DF93199A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3F8E2C-5307-4304-A04A-A89E2711CE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83AA7-2A57-42C2-B657-93C442A85A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864B05-4996-4A60-A2B5-01770E6E4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DB4F8F-D3A8-4E68-A8E4-1C600E3469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21C9A-8BBC-4814-8FC0-F7E665956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4E5DEB-5963-4812-9D5E-D287DC0719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010E3-E748-49DE-93E3-25357DFE81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25F80D-475F-431E-BA40-77C5299B6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B83C4-B2E0-4858-A1E2-F95E9F686E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2783DD-1A14-4567-9FC4-8A4AC47752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A7498-DA25-4CFC-AE95-670BAC770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ADE806-EAAF-4D01-A9B4-A70CCBCD6F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5D849E-84BA-4625-9155-A0A5164BBC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F45B80-D7BA-4E1A-94F1-D91A689817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6CBAFD-096F-4D53-B890-4773D20E78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0E102-8106-4AE2-8580-26655FC1DC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204E29-FF5C-4A45-9C7E-0EF55A982D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569B22-5B58-42E4-A79C-01C626A853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7F374A-5611-4CF3-A415-F495319D8E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5ED50D-9442-4A74-8638-36C2DA24E2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E2558-0B34-4328-A57C-B124598F47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1DC65-EE0C-414F-A75D-792749630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EF2B3C-D83C-4A9E-87C8-DB47935BC7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E7C27C-F176-4D63-903C-6CA9D0BAE5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E65699-1EC3-48EC-A8B5-97CE264811B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8EF61272-D73D-496E-935A-77A0A05331B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8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B5E7DDE-E030-40A4-961C-555B6BB898F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11713EF4-59CA-462E-A6C7-ED0E0A06DD5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CE38347-50D2-4C28-AB52-100D9091B0E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93220C1-B596-486C-834F-584006C97C3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04868DD-E6ED-464F-A222-0EDE4365FBB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064F0A7-D195-4529-8087-18B354CF90D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6910F-67D0-4EFE-B8A0-56D8692F5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5FCE3F92-5146-4227-BBB0-62188696AFB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888BD5C0-F7B7-41F1-9F26-B4D2EC9121FF}"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0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068D92A-2CAC-4CD1-8BF5-6983C65013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CCC69238-2D85-45BF-822C-7DDC6419A22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1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A9C8617C-B3BD-4157-86EA-0176B6185E8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7E2264-EF12-42E1-9948-E13412C912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361E95-2DB5-41B7-92A5-3C4FD90E97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3E9A9-FB6E-420F-A824-73513E52EE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2791BC-B266-4392-BF8F-DBDF5E44FD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62876F-057F-4B94-9221-75461DE720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C3F1-5CA3-4BAB-8760-9D61A5705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315BC-5254-42B5-8ED2-0D159F88F42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4395FD-0B7A-4758-A584-DFDF3A6756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0D150D-E83A-4C63-8CD4-E84EE56AC5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E7FCC0-2416-45C9-BB0F-6D3E5F5087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605062-D626-47D9-94E5-7E7F48752B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96B152-C9BA-45BD-88CF-C4D4B7AA04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7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4FEDC92-BA3A-4DFF-A149-CB9BD998A9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052B04-5815-49D4-B2FC-A314575C05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3CF1B3-D6AE-4D67-BE45-6767D56927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C2C83E0-30A9-4582-9E14-193DC9C26F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6D212-87F9-4E7A-A204-724C92E31F26}"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839" name=""/>
          <p:cNvGrpSpPr/>
          <p:nvPr/>
        </p:nvGrpSpPr>
        <p:grpSpPr>
          <a:xfrm>
            <a:off x="0" y="0"/>
            <a:ext cx="9144000" cy="6934320"/>
            <a:chOff x="0" y="0"/>
            <a:chExt cx="9144000" cy="6934320"/>
          </a:xfrm>
        </p:grpSpPr>
        <p:sp>
          <p:nvSpPr>
            <p:cNvPr id="84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59"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0"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1"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CFE1-DE86-4992-8305-92EE2D04F6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898" name=""/>
          <p:cNvGrpSpPr/>
          <p:nvPr/>
        </p:nvGrpSpPr>
        <p:grpSpPr>
          <a:xfrm>
            <a:off x="0" y="0"/>
            <a:ext cx="9159840" cy="6858000"/>
            <a:chOff x="0" y="0"/>
            <a:chExt cx="9159840" cy="6858000"/>
          </a:xfrm>
        </p:grpSpPr>
        <p:sp>
          <p:nvSpPr>
            <p:cNvPr id="899"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0"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1"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2"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4"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5"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6"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7"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8"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9"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0"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1"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2"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3"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4"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5"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9"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9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22" name="PlaceHolder 3"/>
          <p:cNvSpPr>
            <a:spLocks noGrp="1"/>
          </p:cNvSpPr>
          <p:nvPr>
            <p:ph type="ftr" idx="3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23" name="PlaceHolder 4"/>
          <p:cNvSpPr>
            <a:spLocks noGrp="1"/>
          </p:cNvSpPr>
          <p:nvPr>
            <p:ph type="sldNum" idx="3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80907-43E8-4627-B144-CFBA4DDADEF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924" name="PlaceHolder 5"/>
          <p:cNvSpPr>
            <a:spLocks noGrp="1"/>
          </p:cNvSpPr>
          <p:nvPr>
            <p:ph type="dt" idx="3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961" name=""/>
          <p:cNvGrpSpPr/>
          <p:nvPr/>
        </p:nvGrpSpPr>
        <p:grpSpPr>
          <a:xfrm>
            <a:off x="0" y="0"/>
            <a:ext cx="9159840" cy="6858000"/>
            <a:chOff x="0" y="0"/>
            <a:chExt cx="9159840" cy="6858000"/>
          </a:xfrm>
        </p:grpSpPr>
        <p:sp>
          <p:nvSpPr>
            <p:cNvPr id="962"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3"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4"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5"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6"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7"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9"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0"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1"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2"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3"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4"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5"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6"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7"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8"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9"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0"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1"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8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984"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985"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986"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0A06E-7EB5-4ACF-A162-F8ECE59EFAC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23" name=""/>
          <p:cNvGrpSpPr/>
          <p:nvPr/>
        </p:nvGrpSpPr>
        <p:grpSpPr>
          <a:xfrm>
            <a:off x="3800520" y="1789200"/>
            <a:ext cx="5348160" cy="5056200"/>
            <a:chOff x="3800520" y="1789200"/>
            <a:chExt cx="5348160" cy="5056200"/>
          </a:xfrm>
        </p:grpSpPr>
        <p:sp>
          <p:nvSpPr>
            <p:cNvPr id="1024"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5"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026"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7"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8"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9"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0"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3"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4"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5"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6"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7"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1"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2"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3"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2"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3"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4"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56"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05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60" name="PlaceHolder 3"/>
          <p:cNvSpPr>
            <a:spLocks noGrp="1"/>
          </p:cNvSpPr>
          <p:nvPr>
            <p:ph type="dt" idx="37"/>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61" name="PlaceHolder 4"/>
          <p:cNvSpPr>
            <a:spLocks noGrp="1"/>
          </p:cNvSpPr>
          <p:nvPr>
            <p:ph type="ftr" idx="38"/>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62" name="PlaceHolder 5"/>
          <p:cNvSpPr>
            <a:spLocks noGrp="1"/>
          </p:cNvSpPr>
          <p:nvPr>
            <p:ph type="sldNum" idx="3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94923-8A76-4295-A060-BBEBFEF9D26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099" name=""/>
          <p:cNvGrpSpPr/>
          <p:nvPr/>
        </p:nvGrpSpPr>
        <p:grpSpPr>
          <a:xfrm>
            <a:off x="3800520" y="1789200"/>
            <a:ext cx="5348160" cy="5056200"/>
            <a:chOff x="3800520" y="1789200"/>
            <a:chExt cx="5348160" cy="5056200"/>
          </a:xfrm>
        </p:grpSpPr>
        <p:sp>
          <p:nvSpPr>
            <p:cNvPr id="1100"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102"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32"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4" name="PlaceHolder 1"/>
          <p:cNvSpPr>
            <a:spLocks noGrp="1"/>
          </p:cNvSpPr>
          <p:nvPr>
            <p:ph type="dt" idx="4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35" name="PlaceHolder 2"/>
          <p:cNvSpPr>
            <a:spLocks noGrp="1"/>
          </p:cNvSpPr>
          <p:nvPr>
            <p:ph type="ftr" idx="4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36"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37" name="PlaceHolder 4"/>
          <p:cNvSpPr>
            <a:spLocks noGrp="1"/>
          </p:cNvSpPr>
          <p:nvPr>
            <p:ph type="sldNum" idx="4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7C1F8-A63A-4C2B-83AE-1F5F047F51D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174" name=""/>
          <p:cNvGrpSpPr/>
          <p:nvPr/>
        </p:nvGrpSpPr>
        <p:grpSpPr>
          <a:xfrm>
            <a:off x="3600" y="1422360"/>
            <a:ext cx="9143640" cy="5435640"/>
            <a:chOff x="3600" y="1422360"/>
            <a:chExt cx="9143640" cy="5435640"/>
          </a:xfrm>
        </p:grpSpPr>
        <p:grpSp>
          <p:nvGrpSpPr>
            <p:cNvPr id="1175" name=""/>
            <p:cNvGrpSpPr/>
            <p:nvPr/>
          </p:nvGrpSpPr>
          <p:grpSpPr>
            <a:xfrm>
              <a:off x="31680" y="1422360"/>
              <a:ext cx="9115560" cy="5435640"/>
              <a:chOff x="31680" y="1422360"/>
              <a:chExt cx="9115560" cy="5435640"/>
            </a:xfrm>
          </p:grpSpPr>
          <p:sp>
            <p:nvSpPr>
              <p:cNvPr id="1176"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7"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8"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79"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0"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1"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2"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3"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4"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5"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6"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7"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88"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189" name=""/>
            <p:cNvGrpSpPr/>
            <p:nvPr/>
          </p:nvGrpSpPr>
          <p:grpSpPr>
            <a:xfrm>
              <a:off x="3600" y="3639960"/>
              <a:ext cx="2193840" cy="2694240"/>
              <a:chOff x="3600" y="3639960"/>
              <a:chExt cx="2193840" cy="2694240"/>
            </a:xfrm>
          </p:grpSpPr>
          <p:sp>
            <p:nvSpPr>
              <p:cNvPr id="1190"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1"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2"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3"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194"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5"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6"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7"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8"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9"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0"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01"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2"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3"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4"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5"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6"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7"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08"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9"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0"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1"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2"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3"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4"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5"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6"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7"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8"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9"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0"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1"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2"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3"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4"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5"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6"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7"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8"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9"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30"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1"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2"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3"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4"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5"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6"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7"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8"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9"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0"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1"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2"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43"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4"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5"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6"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7"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8"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9"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0"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1"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2"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3"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5"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6"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7"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8"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9"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0"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1"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2"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3"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64"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5"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6"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7"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8"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9"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0"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1"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2"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3"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4"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5"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6"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7"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8"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9"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280"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1"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2"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3"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4"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5"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6"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7"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8"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9"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0"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1"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2"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3"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4"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5"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6"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7"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8"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9"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0"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1"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2"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3"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4"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5"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6"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7"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8"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9"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0"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7"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318"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20"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1"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24"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26" name="PlaceHolder 2"/>
          <p:cNvSpPr>
            <a:spLocks noGrp="1"/>
          </p:cNvSpPr>
          <p:nvPr>
            <p:ph type="dt" idx="43"/>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327" name="PlaceHolder 3"/>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328" name="PlaceHolder 4"/>
          <p:cNvSpPr>
            <a:spLocks noGrp="1"/>
          </p:cNvSpPr>
          <p:nvPr>
            <p:ph type="sldNum" idx="45"/>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B2BA-5784-49C8-A2E9-3F93278F2DF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329"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366" name=""/>
          <p:cNvGrpSpPr/>
          <p:nvPr/>
        </p:nvGrpSpPr>
        <p:grpSpPr>
          <a:xfrm>
            <a:off x="3600" y="1422360"/>
            <a:ext cx="9143640" cy="5435640"/>
            <a:chOff x="3600" y="1422360"/>
            <a:chExt cx="9143640" cy="5435640"/>
          </a:xfrm>
        </p:grpSpPr>
        <p:grpSp>
          <p:nvGrpSpPr>
            <p:cNvPr id="1367" name=""/>
            <p:cNvGrpSpPr/>
            <p:nvPr/>
          </p:nvGrpSpPr>
          <p:grpSpPr>
            <a:xfrm>
              <a:off x="31680" y="1422360"/>
              <a:ext cx="9115560" cy="5435640"/>
              <a:chOff x="31680" y="1422360"/>
              <a:chExt cx="9115560" cy="5435640"/>
            </a:xfrm>
          </p:grpSpPr>
          <p:sp>
            <p:nvSpPr>
              <p:cNvPr id="1368"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69"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0"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1"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2"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3"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4"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5"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6"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7"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8"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79"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80"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381" name=""/>
            <p:cNvGrpSpPr/>
            <p:nvPr/>
          </p:nvGrpSpPr>
          <p:grpSpPr>
            <a:xfrm>
              <a:off x="3600" y="3639960"/>
              <a:ext cx="2193840" cy="2694240"/>
              <a:chOff x="3600" y="3639960"/>
              <a:chExt cx="2193840" cy="2694240"/>
            </a:xfrm>
          </p:grpSpPr>
          <p:sp>
            <p:nvSpPr>
              <p:cNvPr id="1382"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3"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4"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5"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86"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7"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8"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89"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0"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1"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2"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393"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4"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5"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6"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7"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8"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99"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00"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1"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2"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3"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4"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5"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6"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7"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8"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9"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0"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1"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2"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3"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4"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5"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6"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7"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8"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19"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0"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1"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22"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3"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4"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5"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6"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7"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8"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29"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0"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1"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2"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3"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4"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35"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6"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7"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8"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39"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0"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1"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2"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3"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4"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5"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7"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8"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49"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0"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1"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2"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3"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4"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5"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56"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7"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8"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59"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0"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1"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2"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3"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4"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5"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6"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7"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8"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69"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0"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1"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72"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3"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4"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5"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6"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7"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8"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9"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0"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1"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2"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3"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4"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5"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6"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7"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8"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89"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0"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1"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2"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3"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4"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5"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6"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7"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8"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99"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0"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1"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02"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9"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510"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512"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513"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16"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1518" name="PlaceHolder 2"/>
          <p:cNvSpPr>
            <a:spLocks noGrp="1"/>
          </p:cNvSpPr>
          <p:nvPr>
            <p:ph type="dt" idx="46"/>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519" name="PlaceHolder 3"/>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520" name="PlaceHolder 4"/>
          <p:cNvSpPr>
            <a:spLocks noGrp="1"/>
          </p:cNvSpPr>
          <p:nvPr>
            <p:ph type="sldNum" idx="48"/>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4EAE9-F258-4B18-BB6A-9CCF277998D7}"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9B474-43D2-439D-B755-6A54D17CA7F0}"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89"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9DCE3-78D1-4D55-93ED-D2017260700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30"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31"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2"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DEE24-430B-4F41-8190-7C8AB424EB4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318960" y="1828800"/>
            <a:ext cx="8825040" cy="5029200"/>
            <a:chOff x="318960" y="1828800"/>
            <a:chExt cx="8825040" cy="5029200"/>
          </a:xfrm>
        </p:grpSpPr>
        <p:sp>
          <p:nvSpPr>
            <p:cNvPr id="170"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4"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5"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76"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177"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178" name="PlaceHolder 1"/>
          <p:cNvSpPr>
            <a:spLocks noGrp="1"/>
          </p:cNvSpPr>
          <p:nvPr>
            <p:ph type="dt" idx="13"/>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9" name="PlaceHolder 2"/>
          <p:cNvSpPr>
            <a:spLocks noGrp="1"/>
          </p:cNvSpPr>
          <p:nvPr>
            <p:ph type="ftr" idx="14"/>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187C3-8F87-410C-B710-52657FFA93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1"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82"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219" name=""/>
          <p:cNvGrpSpPr/>
          <p:nvPr/>
        </p:nvGrpSpPr>
        <p:grpSpPr>
          <a:xfrm>
            <a:off x="318960" y="1752480"/>
            <a:ext cx="8825040" cy="5129280"/>
            <a:chOff x="318960" y="1752480"/>
            <a:chExt cx="8825040" cy="5129280"/>
          </a:xfrm>
        </p:grpSpPr>
        <p:sp>
          <p:nvSpPr>
            <p:cNvPr id="220"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3"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224"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5"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22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227" name="PlaceHolder 2"/>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8" name="PlaceHolder 3"/>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9" name="PlaceHolder 4"/>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58D5-A7C0-453E-899B-B06CC85E6A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66" name=""/>
          <p:cNvGrpSpPr/>
          <p:nvPr/>
        </p:nvGrpSpPr>
        <p:grpSpPr>
          <a:xfrm>
            <a:off x="-103320" y="1308240"/>
            <a:ext cx="9350640" cy="5632560"/>
            <a:chOff x="-103320" y="1308240"/>
            <a:chExt cx="9350640" cy="5632560"/>
          </a:xfrm>
        </p:grpSpPr>
        <p:sp>
          <p:nvSpPr>
            <p:cNvPr id="267"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0"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12"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3"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6"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7"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2"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9"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30"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2"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3"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4"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5"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7"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8"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0"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41"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4"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6"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8"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0"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1"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3"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4"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5"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6"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7"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8"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6"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7"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8"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9"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70"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3"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5"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6"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8"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9"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80"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4"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5"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6"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7"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0"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1"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3"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7"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0"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1"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4"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5"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6"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7"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8"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2"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5"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6"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7"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2"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5"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7"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9"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0"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1"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32"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3"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4"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5"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6"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9"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0"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1"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42"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4"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5"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53"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4"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5"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6"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7"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8"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9"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60"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2"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3"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4"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5"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6"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7"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9"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0"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81"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82" name="PlaceHolder 1"/>
          <p:cNvSpPr>
            <a:spLocks noGrp="1"/>
          </p:cNvSpPr>
          <p:nvPr>
            <p:ph type="sldNum" idx="1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5BC7-8DF9-4992-B857-7A18BC2D8C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2"/>
          <p:cNvSpPr>
            <a:spLocks noGrp="1"/>
          </p:cNvSpPr>
          <p:nvPr>
            <p:ph type="dt" idx="20"/>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4" name="PlaceHolder 3"/>
          <p:cNvSpPr>
            <a:spLocks noGrp="1"/>
          </p:cNvSpPr>
          <p:nvPr>
            <p:ph type="ftr" idx="21"/>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5"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6"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23" name=""/>
          <p:cNvGrpSpPr/>
          <p:nvPr/>
        </p:nvGrpSpPr>
        <p:grpSpPr>
          <a:xfrm>
            <a:off x="-105120" y="1311120"/>
            <a:ext cx="9350640" cy="5632560"/>
            <a:chOff x="-105120" y="1311120"/>
            <a:chExt cx="9350640" cy="5632560"/>
          </a:xfrm>
        </p:grpSpPr>
        <p:sp>
          <p:nvSpPr>
            <p:cNvPr id="524"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8"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1"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2"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3"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1"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8"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2"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3"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4"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5"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6"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67"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68"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569"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0"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1"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2"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73"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74"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5"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7"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8"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79"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0"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1"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2"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3"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4"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5"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586"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87"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8"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9"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0"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1"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2"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94"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95"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96"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597"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598"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9"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0"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1"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2"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03"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4"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05"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6"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7"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08"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09"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10"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1"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12"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13"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14"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15"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23"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624"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5"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6"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7"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28"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29"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0"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1"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2"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33"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4"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5"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36"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37"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8"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39"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0"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641"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42"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43"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644"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45"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6"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47"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48"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49"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0"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1"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2"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53"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4"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5"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6"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7"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58"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59"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0"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1"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2"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3"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4"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5"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6"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67"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68"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69"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0"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1"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2"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3"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4"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5"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76"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77"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8"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679"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0"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1"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2"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3"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4"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5"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686"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7"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8"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689"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1"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2"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693"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4"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5"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6"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7"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8"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9"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0"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1"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702"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4"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6"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710"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11"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2"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3"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14"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15"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6"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17"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0"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731"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2"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3"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734"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738"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40"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1"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4B609-1023-4923-B4CC-425FC03A85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779" name=""/>
          <p:cNvGrpSpPr/>
          <p:nvPr/>
        </p:nvGrpSpPr>
        <p:grpSpPr>
          <a:xfrm>
            <a:off x="0" y="0"/>
            <a:ext cx="9144000" cy="6934320"/>
            <a:chOff x="0" y="0"/>
            <a:chExt cx="9144000" cy="6934320"/>
          </a:xfrm>
        </p:grpSpPr>
        <p:sp>
          <p:nvSpPr>
            <p:cNvPr id="780"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2"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3"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4"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5"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6"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0"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1"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7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00"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0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02"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E383-34B0-4948-9B13-C2E935BA9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hyperlink" Target="http://es.wikipedia.org/wiki/George_Devol" TargetMode="External"/><Relationship Id="rId2" Type="http://schemas.openxmlformats.org/officeDocument/2006/relationships/hyperlink" Target="http://es.wikipedia.org/wiki/George_Devol" TargetMode="External"/><Relationship Id="rId3" Type="http://schemas.openxmlformats.org/officeDocument/2006/relationships/hyperlink" Target="http://es.wikipedia.org/w/index.php?title=Joseph_Engelberger&amp;action=edit&amp;redlink=1" TargetMode="External"/><Relationship Id="rId4" Type="http://schemas.openxmlformats.org/officeDocument/2006/relationships/hyperlink" Target="http://es.wikipedia.org/w/index.php?title=Joseph_Engelberger&amp;action=edit&amp;redlink=1" TargetMode="External"/><Relationship Id="rId5" Type="http://schemas.openxmlformats.org/officeDocument/2006/relationships/slideLayout" Target="../slideLayouts/slideLayout9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hyperlink" Target="http://images.google.co.cr/imgres?imgurl=http://www.innovatecno.com/Imagenes/arquitectura.jpg&amp;imgrefurl=http://www.innovatecno.com/Arquitectura.php&amp;usg=__92yx4CLzcMB72s6gQyXNNLXevLE=&amp;h=425&amp;w=503&amp;sz=31&amp;hl=es&amp;start=2&amp;sig2=YxgPmVo0ocKdU9iuIu7tAg&amp;tbnid=VxvlX-cUVkQCFM:&amp;tbnh=110&amp;tbnw=130&amp;ei=17WxSa6cE9qhtwfL6_TDBw&amp;prev=/images%3Fq%3Darquitectura%26gbv%3D2%26hl%3Des" TargetMode="External"/><Relationship Id="rId2" Type="http://schemas.openxmlformats.org/officeDocument/2006/relationships/image" Target="../media/image5.jpeg"/><Relationship Id="rId3"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hyperlink" Target="http://oseb79.free.fr/images/Serie,%20cartoon/Walt%20disney%2003.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755640" y="4076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ffffcc"/>
                </a:solidFill>
                <a:latin typeface="Tahoma"/>
              </a:rPr>
              <a:t>Colegio Bilingüe de Palmares</a:t>
            </a:r>
            <a:br>
              <a:rPr sz="4000"/>
            </a:br>
            <a:r>
              <a:rPr b="0" lang="es-CR" sz="4000" spc="-1" strike="noStrike">
                <a:solidFill>
                  <a:srgbClr val="ffffcc"/>
                </a:solidFill>
                <a:latin typeface="Tahoma"/>
              </a:rPr>
              <a:t>Trabajo de TISG</a:t>
            </a:r>
            <a:br>
              <a:rPr sz="4000"/>
            </a:br>
            <a:r>
              <a:rPr b="0" lang="es-CR" sz="4000" spc="-1" strike="noStrike">
                <a:solidFill>
                  <a:srgbClr val="ffffcc"/>
                </a:solidFill>
                <a:latin typeface="Tahoma"/>
              </a:rPr>
              <a:t>Integrantes: </a:t>
            </a:r>
            <a:br>
              <a:rPr sz="4000"/>
            </a:br>
            <a:r>
              <a:rPr b="0" lang="es-CR" sz="4000" spc="-1" strike="noStrike">
                <a:solidFill>
                  <a:srgbClr val="ffffcc"/>
                </a:solidFill>
                <a:latin typeface="Tahoma"/>
              </a:rPr>
              <a:t>Alina Rodríguez R.</a:t>
            </a:r>
            <a:br>
              <a:rPr sz="4000"/>
            </a:br>
            <a:r>
              <a:rPr b="0" lang="es-CR" sz="4000" spc="-1" strike="noStrike">
                <a:solidFill>
                  <a:srgbClr val="ffffcc"/>
                </a:solidFill>
                <a:latin typeface="Tahoma"/>
              </a:rPr>
              <a:t>María Angélica Vargas M.</a:t>
            </a:r>
            <a:br>
              <a:rPr sz="4000"/>
            </a:br>
            <a:r>
              <a:rPr b="0" lang="es-CR" sz="4000" spc="-1" strike="noStrike">
                <a:solidFill>
                  <a:srgbClr val="ffffcc"/>
                </a:solidFill>
                <a:latin typeface="Tahoma"/>
              </a:rPr>
              <a:t>Katherine Villalobos Z.</a:t>
            </a:r>
            <a:br>
              <a:rPr sz="4000"/>
            </a:br>
            <a:r>
              <a:rPr b="0" lang="es-CR" sz="4000" spc="-1" strike="noStrike">
                <a:solidFill>
                  <a:srgbClr val="ffffcc"/>
                </a:solidFill>
                <a:latin typeface="Tahoma"/>
              </a:rPr>
              <a:t>BI 1-2</a:t>
            </a:r>
            <a:br>
              <a:rPr sz="4000"/>
            </a:br>
            <a:r>
              <a:rPr b="0" lang="es-CR" sz="4000" spc="-1" strike="noStrike">
                <a:solidFill>
                  <a:srgbClr val="ffffcc"/>
                </a:solidFill>
                <a:latin typeface="Tahoma"/>
              </a:rPr>
              <a:t>2009</a:t>
            </a:r>
            <a:endParaRPr b="0" lang="en-US" sz="4000" spc="-1" strike="noStrike">
              <a:solidFill>
                <a:srgbClr val="ffffcc"/>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ffff"/>
                </a:solidFill>
                <a:latin typeface="Tahoma"/>
              </a:rPr>
              <a:t>Cazadores frustrados siguiendo tortugas</a:t>
            </a:r>
            <a:endParaRPr b="0" lang="en-US" sz="4000" spc="-1" strike="noStrike">
              <a:solidFill>
                <a:srgbClr val="e5ffff"/>
              </a:solidFill>
              <a:latin typeface="Tahoma"/>
            </a:endParaRPr>
          </a:p>
        </p:txBody>
      </p:sp>
      <p:sp>
        <p:nvSpPr>
          <p:cNvPr id="157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Son procesadores diminutos que son rastreados a través de un satélite.</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Por ejemplo especies de plantas y animales a las que se les implantan dispositivos para rastrearlos y estudiar su comportamiento.</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También podemos citar que son implantados para rastrear carros robados.</a:t>
            </a:r>
            <a:endParaRPr b="0" lang="en-US" sz="2800" spc="-1" strike="noStrike">
              <a:solidFill>
                <a:srgbClr val="ffffff"/>
              </a:solidFill>
              <a:latin typeface="Tahoma"/>
            </a:endParaRPr>
          </a:p>
          <a:p>
            <a:pPr marL="335880" indent="-335880">
              <a:lnSpc>
                <a:spcPct val="90000"/>
              </a:lnSpc>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Y casos especiales como: m</a:t>
            </a:r>
            <a:r>
              <a:rPr b="0" lang="es-ES" sz="2800" spc="-1" strike="noStrike">
                <a:solidFill>
                  <a:srgbClr val="ffffff"/>
                </a:solidFill>
                <a:latin typeface="Tahoma"/>
              </a:rPr>
              <a:t>ascotas, prisioneros, gente con la enfermedad de Alzheimer, y niño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fdef6"/>
                </a:solidFill>
                <a:latin typeface="Arial"/>
              </a:rPr>
              <a:t>Reduciendo el uso del papel y la basura</a:t>
            </a:r>
            <a:endParaRPr b="0" lang="en-US" sz="4000" spc="-1" strike="noStrike">
              <a:solidFill>
                <a:srgbClr val="dfdef6"/>
              </a:solidFill>
              <a:latin typeface="Arial"/>
            </a:endParaRPr>
          </a:p>
        </p:txBody>
      </p:sp>
      <p:sp>
        <p:nvSpPr>
          <p:cNvPr id="157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a necesidad del uso de papel y la cantidad de basura están siendo disminuidas gracias al almacenamiento electrónico, la capacidad de editar y la actualización de dato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Por ejemplo los libros electrónicos disminuye la cantidad del uso de pap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4400" spc="-1" strike="noStrike">
                <a:solidFill>
                  <a:srgbClr val="feec94"/>
                </a:solidFill>
                <a:latin typeface="Times New Roman"/>
              </a:rPr>
              <a:t>Observaciones</a:t>
            </a:r>
            <a:endParaRPr b="1" lang="en-US" sz="4400" spc="-1" strike="noStrike">
              <a:solidFill>
                <a:srgbClr val="feec94"/>
              </a:solidFill>
              <a:latin typeface="Times New Roman"/>
            </a:endParaRPr>
          </a:p>
        </p:txBody>
      </p:sp>
      <p:sp>
        <p:nvSpPr>
          <p:cNvPr id="15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La meta principal de la tecnología es la seguridad.</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Desventajas: que antes éramos capaces de hacer muchas cosas (El Puente de Brooklyn, Las Pirámides..) sin ayuda de las computadoras. Hoy en día no seriamos capaces de realizar estos trabajos sin ella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imes New Roman"/>
              </a:rPr>
              <a:t>Ventajas: nos permite realizar el trabajo más rápido, preciso, sin mayor esfuerzo y sin utilizar tantos recurso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539640" y="2997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R" sz="9600" spc="-1" strike="noStrike">
                <a:solidFill>
                  <a:srgbClr val="feec94"/>
                </a:solidFill>
                <a:latin typeface="Times New Roman"/>
              </a:rPr>
              <a:t>Ensayo</a:t>
            </a:r>
            <a:endParaRPr b="1" lang="en-US" sz="96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1" name=""/>
          <p:cNvSpPr/>
          <p:nvPr/>
        </p:nvSpPr>
        <p:spPr>
          <a:xfrm>
            <a:off x="-158760" y="219960"/>
            <a:ext cx="9555120" cy="6558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R" sz="2400" spc="-1" strike="noStrike" u="sng">
                <a:solidFill>
                  <a:srgbClr val="ffffff"/>
                </a:solidFill>
                <a:uFillTx/>
                <a:latin typeface="Arial"/>
              </a:rPr>
              <a:t>Los robots reemplazaran a los humanos algún dí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Hoy en día nos encontramos rodeados de máquinas, computadoras y robots; la pregunta es, esto nos beneficia o nos afect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Los robots han llegado a reemplazar, hasta cierto punto, a los seres humanos en distintas labor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ffffff"/>
                </a:solidFill>
                <a:latin typeface="Arial"/>
              </a:rPr>
              <a:t> </a:t>
            </a:r>
            <a:r>
              <a:rPr b="0" lang="es-CR" sz="2000" spc="-1" strike="noStrike">
                <a:solidFill>
                  <a:srgbClr val="ffffff"/>
                </a:solidFill>
                <a:latin typeface="Arial"/>
              </a:rPr>
              <a:t>Estos se han ido introduciendo poco a poco en nuestra sociedad, uno de los primeros y más importantes que podemos mencionar fue el p</a:t>
            </a:r>
            <a:r>
              <a:rPr b="0" lang="es-ES" sz="2000" spc="-1" strike="noStrike">
                <a:solidFill>
                  <a:srgbClr val="ffffff"/>
                </a:solidFill>
                <a:latin typeface="Arial"/>
              </a:rPr>
              <a:t>rimer robot comercial, creado en 1956 por la compañía Unimation fundada por </a:t>
            </a:r>
            <a:r>
              <a:rPr b="0" lang="es-ES" sz="2000" spc="-1" strike="noStrike" u="sng">
                <a:solidFill>
                  <a:srgbClr val="ffffcc"/>
                </a:solidFill>
                <a:uFillTx/>
                <a:latin typeface="Arial"/>
                <a:hlinkClick r:id="rId1"/>
              </a:rPr>
              <a:t>George </a:t>
            </a:r>
            <a:r>
              <a:rPr b="0" lang="es-ES" sz="2000" spc="-1" strike="noStrike" u="sng">
                <a:solidFill>
                  <a:srgbClr val="ffffcc"/>
                </a:solidFill>
                <a:uFillTx/>
                <a:latin typeface="Arial"/>
                <a:hlinkClick r:id="rId2"/>
              </a:rPr>
              <a:t>Devol</a:t>
            </a:r>
            <a:r>
              <a:rPr b="0" lang="es-ES" sz="2000" spc="-1" strike="noStrike">
                <a:solidFill>
                  <a:srgbClr val="ffffff"/>
                </a:solidFill>
                <a:latin typeface="Arial"/>
              </a:rPr>
              <a:t> y </a:t>
            </a:r>
            <a:r>
              <a:rPr b="0" lang="es-ES" sz="2000" spc="-1" strike="noStrike" u="sng">
                <a:solidFill>
                  <a:srgbClr val="ffffcc"/>
                </a:solidFill>
                <a:uFillTx/>
                <a:latin typeface="Arial"/>
                <a:hlinkClick r:id="rId3"/>
              </a:rPr>
              <a:t>Joseph </a:t>
            </a:r>
            <a:r>
              <a:rPr b="0" lang="es-ES" sz="2000" spc="-1" strike="noStrike" u="sng">
                <a:solidFill>
                  <a:srgbClr val="ffffcc"/>
                </a:solidFill>
                <a:uFillTx/>
                <a:latin typeface="Arial"/>
                <a:hlinkClick r:id="rId4"/>
              </a:rPr>
              <a:t>Engelberger</a:t>
            </a:r>
            <a:r>
              <a:rPr b="0" lang="es-ES" sz="2000" spc="-1" strike="noStrike">
                <a:solidFill>
                  <a:srgbClr val="ffffff"/>
                </a:solidFill>
                <a:latin typeface="Arial"/>
              </a:rPr>
              <a:t>. Tras años de trabajo e innovaciones tecnológicas llegamos al día de hoy. Existen ventajas y desventajas sobre la existencia de los robots en la vida de las person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laro está que los robots han aportado muchas cosas para mejorar la calidad de vida como por ejemplo el uso de estos para personas discapacitadas como los no videntes y guiarlos de una manera más efectiva: éste es el robot que por medio de la voz reconoce las órdenes de la persona para realizar todas las actividades necesarias y que a diferencias de las mascotas no distraen y no se corre el riesgo de accidente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tro beneficio que podemos mencionar es el uso de robots en trabajos peligrosos como investigaciones científicas en volcanes o las misiones espaciales de la NASA.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82" name=""/>
          <p:cNvSpPr/>
          <p:nvPr/>
        </p:nvSpPr>
        <p:spPr>
          <a:xfrm>
            <a:off x="179280" y="-49320"/>
            <a:ext cx="896472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el contrario el uso de robots ha traído severas consecuencias para nuestra sociedad ya que han venido reemplazando a los seres humanos en ciertas labores. Un ejemplo de ellas se encuentra en la industria, ya que se esta gastando mucho dinero comprando maquinaria que sustituye el trabajo de los empleados. También tenemos otra situación como que se han creado robots que sean capaces de redactar blogs, los cuales le quitan el empleo a los bloggers que son los encargados de redactarlos. Por lo tanto situaciones como estas ocasionan muchos casos de desemple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spondiendo nuestra pregunta, tenemos que aceptar que los robots nos van ha traer muchas ventajas pero a la vez algunos problemas. Es decisión de cada uno de nosotros determinar cómo los usaremos, si para bien o para mal. Los robots tal vez lleguen a reemplazar al hombre en muchas áreas, sin embargo nunca podrán hacerlo del todo porque los seres humanos somos únic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8"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    </a:t>
            </a:r>
            <a:r>
              <a:rPr b="1" lang="es-ES" sz="2400" spc="-1" strike="noStrike">
                <a:solidFill>
                  <a:srgbClr val="ffffff"/>
                </a:solidFill>
                <a:latin typeface="Tahoma"/>
              </a:rPr>
              <a:t>Lista de los beneficios que  se obtienen de los formatos electrónicos en materiales bibliotecari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Permite agilizar el préstamo de los libro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Porque cada libro y cada usuario tienen su propio código de barras.</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Los lectores ópticos ingresan a la base de datos la transacción de forma inmediata.</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59" name="PlaceHolder 1"/>
          <p:cNvSpPr>
            <a:spLocks noGrp="1"/>
          </p:cNvSpPr>
          <p:nvPr>
            <p:ph/>
          </p:nvPr>
        </p:nvSpPr>
        <p:spPr>
          <a:xfrm>
            <a:off x="324000" y="260280"/>
            <a:ext cx="8229600" cy="4525920"/>
          </a:xfrm>
          <a:prstGeom prst="rect">
            <a:avLst/>
          </a:prstGeom>
          <a:noFill/>
          <a:ln w="0">
            <a:noFill/>
          </a:ln>
        </p:spPr>
        <p:txBody>
          <a:bodyPr lIns="90000" rIns="90000" tIns="46800" bIns="46800" anchor="t">
            <a:normAutofit/>
          </a:bodyPr>
          <a:p>
            <a:pPr marL="609480" indent="-60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Se ahorra papel ya que no se dan recibos ni otros documentos si no que se hace se forma electrónica por medio de la tarjeta.</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9480" indent="-6094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Arial"/>
              </a:rPr>
              <a:t>En otras bibliotecas se utilizan sistemas de búsqueda rápida en las computadoras.</a:t>
            </a:r>
            <a:endParaRPr b="0" lang="en-US" sz="3200" spc="-1" strike="noStrike">
              <a:solidFill>
                <a:srgbClr val="fffff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1560" name="PlaceHolder 1"/>
          <p:cNvSpPr>
            <a:spLocks noGrp="1"/>
          </p:cNvSpPr>
          <p:nvPr>
            <p:ph/>
          </p:nvPr>
        </p:nvSpPr>
        <p:spPr>
          <a:xfrm>
            <a:off x="395280" y="259920"/>
            <a:ext cx="8229600" cy="6193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bajos que han llegado a ser obsoletos por las computadoras</a:t>
            </a:r>
            <a:r>
              <a:rPr b="0" lang="es-E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Arial"/>
              </a:rPr>
              <a:t>Arquitectura: años atrás las personas hacían puentes, edificios…. Y lo hacían como una manera manual y más artística, incluso las pirámides fueron hechas de este modo. Ahora todo eso se logra de una manera más rápida por medio de las computadora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1" name=""/>
          <p:cNvSpPr/>
          <p:nvPr/>
        </p:nvSpPr>
        <p:spPr>
          <a:xfrm>
            <a:off x="2627280" y="4076640"/>
            <a:ext cx="2592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62" name="" descr="">
            <a:hlinkClick r:id="rId1"/>
          </p:cNvPr>
          <p:cNvPicPr/>
          <p:nvPr/>
        </p:nvPicPr>
        <p:blipFill>
          <a:blip r:embed="rId2"/>
          <a:stretch/>
        </p:blipFill>
        <p:spPr>
          <a:xfrm>
            <a:off x="2916360" y="4149720"/>
            <a:ext cx="2592360" cy="219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3" name="PlaceHolder 1"/>
          <p:cNvSpPr>
            <a:spLocks noGrp="1"/>
          </p:cNvSpPr>
          <p:nvPr>
            <p:ph/>
          </p:nvPr>
        </p:nvSpPr>
        <p:spPr>
          <a:xfrm>
            <a:off x="179280" y="3645000"/>
            <a:ext cx="4572000" cy="4076640"/>
          </a:xfrm>
          <a:prstGeom prst="rect">
            <a:avLst/>
          </a:prstGeom>
          <a:noFill/>
          <a:ln w="0">
            <a:noFill/>
          </a:ln>
        </p:spPr>
        <p:txBody>
          <a:bodyPr lIns="90000" rIns="90000" tIns="46800" bIns="46800" anchor="t">
            <a:normAutofit/>
          </a:bodyPr>
          <a:p>
            <a:pPr marL="343080" indent="-343080">
              <a:spcBef>
                <a:spcPts val="601"/>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imes New Roman"/>
              </a:rPr>
              <a:t>Animación: anteriormente se acostumbraba a hacer los dibujos a mano paso por paso, hoy en día contamos con programas que hacen este trabajo.</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564" name="" descr="">
            <a:hlinkClick r:id="rId1"/>
          </p:cNvPr>
          <p:cNvPicPr/>
          <p:nvPr/>
        </p:nvPicPr>
        <p:blipFill>
          <a:blip r:embed="rId2"/>
          <a:stretch/>
        </p:blipFill>
        <p:spPr>
          <a:xfrm>
            <a:off x="5219640" y="4005360"/>
            <a:ext cx="3305160" cy="2479680"/>
          </a:xfrm>
          <a:prstGeom prst="rect">
            <a:avLst/>
          </a:prstGeom>
          <a:ln w="0">
            <a:noFill/>
          </a:ln>
        </p:spPr>
      </p:pic>
      <p:pic>
        <p:nvPicPr>
          <p:cNvPr id="1565" name="" descr=""/>
          <p:cNvPicPr/>
          <p:nvPr/>
        </p:nvPicPr>
        <p:blipFill>
          <a:blip r:embed="rId3"/>
          <a:stretch/>
        </p:blipFill>
        <p:spPr>
          <a:xfrm>
            <a:off x="755640" y="549360"/>
            <a:ext cx="2192400" cy="21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66" name="PlaceHolder 1"/>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343080" indent="-34308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Industria: antes las personas tenían más trabajos en las fabricas por ejemplo en la inspección de productos.. Ahora las computadoras controlan programas de automatización que sustituyen éstos trabajos</a:t>
            </a:r>
            <a:endParaRPr b="0" lang="en-US" sz="3200" spc="-1" strike="noStrike">
              <a:solidFill>
                <a:srgbClr val="ffffff"/>
              </a:solidFill>
              <a:latin typeface="Tahoma"/>
            </a:endParaRPr>
          </a:p>
        </p:txBody>
      </p:sp>
      <p:pic>
        <p:nvPicPr>
          <p:cNvPr id="1567" name="" descr=""/>
          <p:cNvPicPr/>
          <p:nvPr/>
        </p:nvPicPr>
        <p:blipFill>
          <a:blip r:embed="rId1"/>
          <a:stretch/>
        </p:blipFill>
        <p:spPr>
          <a:xfrm>
            <a:off x="5651640" y="3429000"/>
            <a:ext cx="2160360" cy="2874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dbbd71"/>
                </a:solidFill>
                <a:latin typeface="Arial"/>
              </a:rPr>
              <a:t>Resumen de la Automatización</a:t>
            </a:r>
            <a:endParaRPr b="0" lang="en-US" sz="4400" spc="-1" strike="noStrike">
              <a:solidFill>
                <a:srgbClr val="dbbd71"/>
              </a:solidFill>
              <a:latin typeface="Arial"/>
            </a:endParaRPr>
          </a:p>
        </p:txBody>
      </p:sp>
      <p:sp>
        <p:nvSpPr>
          <p:cNvPr id="15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Actualmente en muchas fábricas y almacenes</a:t>
            </a:r>
            <a:r>
              <a:rPr b="0" lang="es-CR" sz="2800" spc="-1" strike="noStrike">
                <a:solidFill>
                  <a:srgbClr val="ffffff"/>
                </a:solidFill>
                <a:latin typeface="Tahoma"/>
              </a:rPr>
              <a:t> </a:t>
            </a:r>
            <a:r>
              <a:rPr b="0" lang="es-CR" sz="2400" spc="-1" strike="noStrike">
                <a:solidFill>
                  <a:srgbClr val="ffffff"/>
                </a:solidFill>
                <a:latin typeface="Tahoma"/>
              </a:rPr>
              <a:t>se esta utilizando la automatización computarizada controlad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Al ser combinada con otros sistemas producen máquinas que son usadas en líneas de producción.</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Un ejemplo de esta automatización son los brazos robóticos que se utilizan, por ejemplo para ensamblar productos de manera más rápida y precisa.</a:t>
            </a:r>
            <a:endParaRPr b="0" lang="en-US" sz="2400" spc="-1" strike="noStrike">
              <a:solidFill>
                <a:srgbClr val="ffffff"/>
              </a:solidFill>
              <a:latin typeface="Tahoma"/>
            </a:endParaRPr>
          </a:p>
          <a:p>
            <a:pPr marL="343080" indent="-343080">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400" spc="-1" strike="noStrike">
                <a:solidFill>
                  <a:srgbClr val="ffffff"/>
                </a:solidFill>
                <a:latin typeface="Tahoma"/>
              </a:rPr>
              <a:t>También podemos mencionar el caso de robots que sustituyen a las personas en trabajos peligroso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Identificación, censores y sistemas de rastreo</a:t>
            </a:r>
            <a:endParaRPr b="0" lang="en-US" sz="3600" spc="-1" strike="noStrike">
              <a:solidFill>
                <a:srgbClr val="ffffcc"/>
              </a:solidFill>
              <a:latin typeface="Tahoma"/>
            </a:endParaRPr>
          </a:p>
        </p:txBody>
      </p:sp>
      <p:sp>
        <p:nvSpPr>
          <p:cNvPr id="15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En los negocios los lectores ópticos eliminan el costoso trabajo de utilizar etiquetas y digitar el monto de cada producto vendido por medio de los códigos de barra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Este mismo sistema nos ayuda a actualizar el inventario y nos informa cuando es necesario realizar pedidos.</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2800" spc="-1" strike="noStrike">
                <a:solidFill>
                  <a:srgbClr val="ffffff"/>
                </a:solidFill>
                <a:latin typeface="Tahoma"/>
              </a:rPr>
              <a:t> </a:t>
            </a:r>
            <a:r>
              <a:rPr b="0" lang="es-CR" sz="2800" spc="-1" strike="noStrike">
                <a:solidFill>
                  <a:srgbClr val="ffffff"/>
                </a:solidFill>
                <a:latin typeface="Tahoma"/>
              </a:rPr>
              <a:t>En el caso de las bibliotecas permite hacer la transacción de un libro de manera inmediata ya que esta es registrada en el sistema.</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400" spc="-1" strike="noStrike">
                <a:solidFill>
                  <a:srgbClr val="ffffcc"/>
                </a:solidFill>
                <a:latin typeface="Tahoma"/>
              </a:rPr>
              <a:t>Cosas Inteligentes</a:t>
            </a:r>
            <a:endParaRPr b="0" lang="en-US" sz="4400" spc="-1" strike="noStrike">
              <a:solidFill>
                <a:srgbClr val="ffffcc"/>
              </a:solidFill>
              <a:latin typeface="Tahoma"/>
            </a:endParaRPr>
          </a:p>
        </p:txBody>
      </p:sp>
      <p:sp>
        <p:nvSpPr>
          <p:cNvPr id="15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En toda clase de aplicaciones podemos encontrar transmisores de radio diminuto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Por ejemplo son implantados en los pollos para controlar su temperatura y asi prevenir enfermedades y muertes.</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ffffff"/>
                </a:solidFill>
                <a:latin typeface="Tahoma"/>
              </a:rPr>
              <a:t>En la agricultura se implantan en la tierra para medir la acidez, humedad y otr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6T22:10:07Z</dcterms:created>
  <dc:creator>Kate</dc:creator>
  <dc:description/>
  <dc:language>en-US</dc:language>
  <cp:lastModifiedBy>Kate</cp:lastModifiedBy>
  <dcterms:modified xsi:type="dcterms:W3CDTF">2009-03-11T17:44:21Z</dcterms:modified>
  <cp:revision>9</cp:revision>
  <dc:subject/>
  <dc:title>Colegio Bilingüe de Palmares Trabajo de TISG Integrantes:  Alina Rodríguez R. María Angélica Vargas M. Katherine Villalobos Z. BI 1-2 2009</dc:title>
</cp:coreProperties>
</file>